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7BBBD-9B47-42FE-92F2-4F6E813D8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C4C49-98E0-4034-B939-00A013315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BA036-8664-4C04-B911-453F274E1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CB10C-E2AA-44D0-AFA7-869A19EA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1EED-C320-49D8-AC7A-E0F42A78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689B-A4AE-4BA4-B507-35375F080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23F4-EE1A-4059-ACC3-9DEF0BB2B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E031-EF62-4376-B9B0-56866E4A7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D74E-A98F-4D89-AF77-BE6C9276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82A0-11F5-4422-B53B-D11B4F95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53BE-05A7-4440-8D61-D492E16E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FF8B-7F33-43B8-ACE9-110101CD8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9830-FBE9-4E4E-A098-AC7BC04F7B62}"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iegel.de/fotostrecke/0,5538,PB64-SUQ9MzA2MTMmbnI9Mw_3_3,00.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 Global Food Cri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y Nina Sandström Angelsen</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elbu videregående sk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eing the Countryside and Farming – Urbanization of Societies</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ior to year 2000,  prices on corn, rice and grain were unusually low</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a result many farmers, especially in the developing countries such as China, Indian and Africa, were unable to handle their farming debts and/or make a living off their crop-growing lan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addition to that, they also experienced years of crop failure due to droughts and floods and other natural disas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a result many farmers experienced foreclosures or abandoned their farms altogether, leaving farmland to waste, and went searching for jobs in the c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light from the countryside, farming and farming-related occupations, is called urbanization of socie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re and more people around the world live in towns and big cities and are engaged in occupations other than farm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ocess of increased urbanization has been going on since the beginning of the age of industrializ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day this means that cities are expanding (utvider seg) and this expansion involves using farmland to make room for new buildings and roads (infrastructure). As a result acres of crop-growing land have been lost, worsening the food shortage to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rends in Urbanization</a:t>
            </a:r>
            <a:endParaRPr b="0" lang="en-US" sz="4400" spc="-1" strike="noStrike">
              <a:solidFill>
                <a:srgbClr val="000000"/>
              </a:solidFill>
              <a:latin typeface="Arial"/>
            </a:endParaRPr>
          </a:p>
        </p:txBody>
      </p:sp>
      <p:pic>
        <p:nvPicPr>
          <p:cNvPr id="69" name="Picture 6" descr="20050623203126!Urbanization-region"/>
          <p:cNvPicPr/>
          <p:nvPr/>
        </p:nvPicPr>
        <p:blipFill>
          <a:blip r:embed="rId1"/>
          <a:stretch/>
        </p:blipFill>
        <p:spPr>
          <a:xfrm>
            <a:off x="1219320" y="182880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a majority of the world’s climate scientists, higher temperatures caused by global warming will result in an increase of droughts and flooding around the worl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st areas of farmland might dry up or be flooded, leaving it useless for farming and the growing of foo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United Nations Intergovernmental Panel on Climate Change (IPCC), a one-metre rise in sea-level over the next 100 years might flood almost 1/3 of the world’s crop-growing lan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oughts and floodings will destroy crops and crop-growing lan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ight in turn lead to a serious food shortage worldwid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the world’s stocks of grain, rice, corn and other staple foods will be greatly reduced and millions of people will starv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United Nations, an area of fertile* soil the size of Ukraine is lost every year because of drought, deforestation* and climate chang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Production of Biofuel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reat of global warming caused by emissions of man-made greenhouse gases such as carbon dioxide (CO2) that are released into the atmosphere by the burning of fossil fuels such as oil, gas and coal has resulted in a search for so-called “green” fuels that can power our vehicles (cars, trucks, boats, and planes)</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se “green” fuels is biofuel which is made from crops such as maize (mais)</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farmland and crops to produce biofuels has increased in recent years. However, with a growing global food crisis on our hands, experts fear that the use of vast areas of farmland to grow crops for bio-fuels might contribute to the growing food shortage in the world. In other words, in a world of food shortage and starvation, valuable farmland is used to “grow food to feed cars instead of peopl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than 20 countries plan to increase their production of bio-fuels over the next decade</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year a ¼ of the US maize crops was turned into ethanol to fuel vehicles (kjøretøyer), and the US is planning to treble maize production to make biofuels or ethanol.</a:t>
            </a:r>
            <a:endParaRPr b="0" lang="en-US" sz="1200" spc="-1" strike="noStrike">
              <a:solidFill>
                <a:srgbClr val="000000"/>
              </a:solidFill>
              <a:latin typeface="Arial"/>
            </a:endParaRPr>
          </a:p>
        </p:txBody>
      </p:sp>
      <p:pic>
        <p:nvPicPr>
          <p:cNvPr id="75" name="Picture 6" descr="eabio129"/>
          <p:cNvPicPr/>
          <p:nvPr/>
        </p:nvPicPr>
        <p:blipFill>
          <a:blip r:embed="rId1"/>
          <a:stretch/>
        </p:blipFill>
        <p:spPr>
          <a:xfrm>
            <a:off x="5000760" y="1628640"/>
            <a:ext cx="3333600" cy="446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pic>
        <p:nvPicPr>
          <p:cNvPr id="77" name="Picture 6" descr="What-is-global-warming-img"/>
          <p:cNvPicPr/>
          <p:nvPr/>
        </p:nvPicPr>
        <p:blipFill>
          <a:blip r:embed="rId1"/>
          <a:stretch/>
        </p:blipFill>
        <p:spPr>
          <a:xfrm>
            <a:off x="838080" y="1447920"/>
            <a:ext cx="73915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Natural Disaster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rricanes, Torandoes, Tsunami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s, Floods,e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vere droughts and other natural disasters such as the Asian tsunami have destroyed crops in Africa, Australia, Asia, Europe, and central-America</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st year Australia experienced its worst drought for over a century, and as a result its wheat crop shrank by 6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n Europe, severe droughts have destroyed half the crops in Spain and Portugal. Both countries have applied to the EU for food assistanc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Many countries, especially African countries, have had their worst droughts in more than 10 years and are now experiencing their third or fourth severe drought in a just a few year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Severe droughts have also badly affected crops in Cuba, Cambodia, Australia, Afghanistan, Vietnam, Morocco, Guatemala, Honduras and Nicaragua</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ccording to UN climate scientists, global warming and higher temperatures have caused the moisture in the soil to evaporate, leaving valuable crop-growing land dry.</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0" name="Picture 7" descr="040207-p9"/>
          <p:cNvPicPr/>
          <p:nvPr/>
        </p:nvPicPr>
        <p:blipFill>
          <a:blip r:embed="rId1"/>
          <a:stretch/>
        </p:blipFill>
        <p:spPr>
          <a:xfrm>
            <a:off x="5000760" y="2133720"/>
            <a:ext cx="3333600" cy="283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conomic Growth in Developing Countries</a:t>
            </a:r>
            <a:endParaRPr b="0" lang="en-US" sz="28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growth in developing countries such as China has resulted in a growing middle-class who can afford and desire the standard of living enjoyed by many people in developed countries such as the USA, Norway, Canada, etc.</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nge of standard of living also involves changing your food hab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hina the consumption of meat has increased among people who have benefited from the recent economic growth in the count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the growing Chinese middle class can now afford to buy and eat larger amounts of meat than earli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raising of livestock such as cattle requires much more land and produces </a:t>
            </a:r>
            <a:r>
              <a:rPr b="1" lang="en-GB" sz="1200" spc="-1" strike="noStrike" u="sng">
                <a:solidFill>
                  <a:srgbClr val="000000"/>
                </a:solidFill>
                <a:uFillTx/>
                <a:latin typeface="Arial"/>
              </a:rPr>
              <a:t>far</a:t>
            </a:r>
            <a:r>
              <a:rPr b="1" lang="en-GB" sz="1200" spc="-1" strike="noStrike">
                <a:solidFill>
                  <a:srgbClr val="000000"/>
                </a:solidFill>
                <a:latin typeface="Arial"/>
              </a:rPr>
              <a:t> </a:t>
            </a:r>
            <a:r>
              <a:rPr b="0" lang="en-GB" sz="1200" spc="-1" strike="noStrike">
                <a:solidFill>
                  <a:srgbClr val="000000"/>
                </a:solidFill>
                <a:latin typeface="Arial"/>
              </a:rPr>
              <a:t>less food than if the area has been used to grow rice, grain, or maiz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ronically, if economic growth in developing countries continues and the demand for meat increases worldwide, this might worsen the food shortage in the world as vast areas of land and farmland might be converted into pastures for livestock, producing food that millions of people in poor countries who do not take part in the economic growth cannot afford to buy.</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3" name="Picture 8" descr="about_potash_pic8"/>
          <p:cNvPicPr/>
          <p:nvPr/>
        </p:nvPicPr>
        <p:blipFill>
          <a:blip r:embed="rId1"/>
          <a:stretch/>
        </p:blipFill>
        <p:spPr>
          <a:xfrm>
            <a:off x="4648320" y="1447920"/>
            <a:ext cx="4038480" cy="2190600"/>
          </a:xfrm>
          <a:prstGeom prst="rect">
            <a:avLst/>
          </a:prstGeom>
          <a:ln w="0">
            <a:noFill/>
          </a:ln>
        </p:spPr>
      </p:pic>
      <p:pic>
        <p:nvPicPr>
          <p:cNvPr id="84" name="Picture 9" descr="about_potash_pic9"/>
          <p:cNvPicPr/>
          <p:nvPr/>
        </p:nvPicPr>
        <p:blipFill>
          <a:blip r:embed="rId2"/>
          <a:stretch/>
        </p:blipFill>
        <p:spPr>
          <a:xfrm>
            <a:off x="4648320" y="3733920"/>
            <a:ext cx="4038480" cy="233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eat Consumption in China</a:t>
            </a:r>
            <a:endParaRPr b="0" lang="en-US" sz="4400" spc="-1" strike="noStrike">
              <a:solidFill>
                <a:srgbClr val="000000"/>
              </a:solidFill>
              <a:latin typeface="Arial"/>
            </a:endParaRPr>
          </a:p>
        </p:txBody>
      </p:sp>
      <p:pic>
        <p:nvPicPr>
          <p:cNvPr id="86" name="Picture 5" descr="about_potash_pic10"/>
          <p:cNvPicPr/>
          <p:nvPr/>
        </p:nvPicPr>
        <p:blipFill>
          <a:blip r:embed="rId1"/>
          <a:stretch/>
        </p:blipFill>
        <p:spPr>
          <a:xfrm>
            <a:off x="1143000" y="1828800"/>
            <a:ext cx="693432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2009 - The Global Food Crisis I</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shortage</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ebruary 2009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global cereal has been reduced since 2008 (FA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outhern Africa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 smaller maize crop because of dry weathe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sia</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 smaller wheat crop in China and India because of severe drought and precipitation </a:t>
            </a:r>
            <a:br>
              <a:rPr sz="1200"/>
            </a:br>
            <a:r>
              <a:rPr b="0" lang="nb-NO"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High prices persist in many poor countri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spite the decline in international prices in the second half of 2008, food prices remain very high in several developing countri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is affects access to food among low-income population group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n Southern Africa and Central America, prices of main food commodities have continued to rise or have not decreased in recent months</a:t>
            </a:r>
            <a:endParaRPr b="0" lang="en-US" sz="1200" spc="-1" strike="noStrike">
              <a:solidFill>
                <a:srgbClr val="000000"/>
              </a:solidFill>
              <a:latin typeface="Arial"/>
            </a:endParaRPr>
          </a:p>
        </p:txBody>
      </p:sp>
      <p:pic>
        <p:nvPicPr>
          <p:cNvPr id="89" name="Picture 11" descr="rice"/>
          <p:cNvPicPr/>
          <p:nvPr/>
        </p:nvPicPr>
        <p:blipFill>
          <a:blip r:embed="rId1"/>
          <a:stretch/>
        </p:blipFill>
        <p:spPr>
          <a:xfrm>
            <a:off x="4648320" y="2246400"/>
            <a:ext cx="4038480" cy="323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2009 – Global Food Crisi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Western and Eastern African countri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have fallen significantly since 2008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ut now they are increasing agai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on important staples such as imported rice and wheat are still on the increas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of rice and wheat remain high in several poor countries in Asia, Afghanistan, Pakistan and Sri Lanka.</a:t>
            </a:r>
            <a:br>
              <a:rPr sz="1200"/>
            </a:br>
            <a:r>
              <a:rPr b="0" lang="nb-NO"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32 countries in crisi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od crises persist in 32 countries around the world.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food situation is especially severe in the Gaza Strip as a result of the recent conflict (FAO)</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Eastern Afric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ore than 18 million people face serious food insecurity due either to conflict, unrest, adverse weather or a combined effec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Kenya, Somalia and Zimbabwe, the food situation is very serious due to drought-reduced crops, civil insecurity and/or economic cris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2" name="Picture 11" descr="wheat"/>
          <p:cNvPicPr/>
          <p:nvPr/>
        </p:nvPicPr>
        <p:blipFill>
          <a:blip r:embed="rId1"/>
          <a:stretch/>
        </p:blipFill>
        <p:spPr>
          <a:xfrm>
            <a:off x="4978440" y="1600200"/>
            <a:ext cx="33764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od Prices 2007-2009</a:t>
            </a:r>
            <a:endParaRPr b="0" lang="en-US" sz="4400" spc="-1" strike="noStrike">
              <a:solidFill>
                <a:srgbClr val="000000"/>
              </a:solidFill>
              <a:latin typeface="Arial"/>
            </a:endParaRPr>
          </a:p>
        </p:txBody>
      </p:sp>
      <p:pic>
        <p:nvPicPr>
          <p:cNvPr id="94" name="Picture 6" descr="220_crop_prospects_graph w"/>
          <p:cNvPicPr/>
          <p:nvPr/>
        </p:nvPicPr>
        <p:blipFill>
          <a:blip r:embed="rId1"/>
          <a:stretch/>
        </p:blipFill>
        <p:spPr>
          <a:xfrm>
            <a:off x="1981080" y="1828800"/>
            <a:ext cx="5181840" cy="396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uture Prospect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ording to experts it is possible for the world to feed itself but it depends on how we are growing foo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 we, here in Norway, might have to reconsider our dependency on our import of staple food such as grain and consider growing our own food to a much greater extent than we do to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haps we even might have to use our well-trimmed gardens and lawns to grow potatoes and other vegetables, as people did in this country during WWII</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knows?</a:t>
            </a:r>
            <a:endParaRPr b="0" lang="en-US" sz="1600" spc="-1" strike="noStrike">
              <a:solidFill>
                <a:srgbClr val="000000"/>
              </a:solidFill>
              <a:latin typeface="Arial"/>
            </a:endParaRPr>
          </a:p>
        </p:txBody>
      </p:sp>
      <p:pic>
        <p:nvPicPr>
          <p:cNvPr id="97" name="Picture 7" descr="untitled"/>
          <p:cNvPicPr/>
          <p:nvPr/>
        </p:nvPicPr>
        <p:blipFill>
          <a:blip r:embed="rId1"/>
          <a:stretch/>
        </p:blipFill>
        <p:spPr>
          <a:xfrm>
            <a:off x="4648320" y="2530440"/>
            <a:ext cx="403848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2008 – The Year of Global Food Crisis</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2008 was announced as the year of global food cri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Sunday Herald described the world’s food situation a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The Biggest Crisis of the 21st Centur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8" descr="starvation"/>
          <p:cNvPicPr/>
          <p:nvPr/>
        </p:nvPicPr>
        <p:blipFill>
          <a:blip r:embed="rId1"/>
          <a:stretch/>
        </p:blipFill>
        <p:spPr>
          <a:xfrm>
            <a:off x="5334120" y="1905120"/>
            <a:ext cx="320040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 Biggest Crisis of the 21s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lions of people around the world are starving because of food scarcity and high prices on staple food* such as grain, rice, soya beans, and maiz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n 2008 – prices on these staples increased dramatically</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developing countries today are facing a food crisis and all of them will need help to deal with this crisi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se countries are in Africa, Asia, and South-America</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ikringskost eller hovedernæringskilde</a:t>
            </a:r>
            <a:endParaRPr b="0" lang="en-US" sz="1200" spc="-1" strike="noStrike">
              <a:solidFill>
                <a:srgbClr val="000000"/>
              </a:solidFill>
              <a:latin typeface="Arial"/>
            </a:endParaRPr>
          </a:p>
        </p:txBody>
      </p:sp>
      <p:pic>
        <p:nvPicPr>
          <p:cNvPr id="50" name="Picture 7" descr="Pakistani women buy subsidized flour in Lahore. The price of staple foods and fuel has risen drastically in the country in the last few months. Many people in Pakistan are now dependent on state subsidies.">
            <a:hlinkClick r:id="rId1"/>
          </p:cNvPr>
          <p:cNvPicPr/>
          <p:nvPr/>
        </p:nvPicPr>
        <p:blipFill>
          <a:blip r:embed="rId2"/>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Last Year’s Global Food Crisis</a:t>
            </a:r>
            <a:br>
              <a:rPr sz="4000"/>
            </a:br>
            <a:r>
              <a:rPr b="0" lang="nb-NO" sz="2400" spc="-1" strike="noStrike">
                <a:solidFill>
                  <a:srgbClr val="000000"/>
                </a:solidFill>
                <a:latin typeface="Arial"/>
              </a:rPr>
              <a:t>2008</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was last year’s global food cris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bou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ing food pric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prices rose by 75% since 2000, which was a dramatic increas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at prices increased by 200%</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st of rice, corn and soy beans also reached record high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e of prices on rice, corn, and grain was especially serious since these foods form the main food sources for a great number of people in Asia, Africa and Central America and without which millions of people face starvation and dea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food available in the markets and shops but because of the high prices people could not afford to buy it and as a result starved</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ices on staple foods (sikringskost) such as rice, grain, corn and soy beans sky-rocket, people around the earth are unable to afford the food they need to stay alive.</a:t>
            </a:r>
            <a:endParaRPr b="0" lang="en-US" sz="1200" spc="-1" strike="noStrike">
              <a:solidFill>
                <a:srgbClr val="000000"/>
              </a:solidFill>
              <a:latin typeface="Arial"/>
            </a:endParaRPr>
          </a:p>
        </p:txBody>
      </p:sp>
      <p:pic>
        <p:nvPicPr>
          <p:cNvPr id="53" name="Picture 7" descr="graph0303foodcrisis.gif - 12382 Bytes"/>
          <p:cNvPicPr/>
          <p:nvPr/>
        </p:nvPicPr>
        <p:blipFill>
          <a:blip r:embed="rId1"/>
          <a:stretch/>
        </p:blipFill>
        <p:spPr>
          <a:xfrm>
            <a:off x="4648320" y="1600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 Global Food Shortag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aybe - in the fu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world’s population is increas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t is estimated that by 2050 – the world’s population will be around 9 billion peo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 order to feed the growing population – the world needs to double its production of food by 205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f it fails to do so - millions of people will starve</a:t>
            </a:r>
            <a:endParaRPr b="0" lang="en-US" sz="1800" spc="-1" strike="noStrike">
              <a:solidFill>
                <a:srgbClr val="000000"/>
              </a:solidFill>
              <a:latin typeface="Arial"/>
            </a:endParaRPr>
          </a:p>
        </p:txBody>
      </p:sp>
      <p:pic>
        <p:nvPicPr>
          <p:cNvPr id="56" name="Picture 7" descr="starvation.jpg"/>
          <p:cNvPicPr/>
          <p:nvPr/>
        </p:nvPicPr>
        <p:blipFill>
          <a:blip r:embed="rId1"/>
          <a:stretch/>
        </p:blipFill>
        <p:spPr>
          <a:xfrm>
            <a:off x="4648320" y="2300400"/>
            <a:ext cx="4038480" cy="312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od Shor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od shortage has and might become a serious proble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na’s grain harvest has shrunk by 10% over the past seven year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s grain stocks (kornlagre) have been greatly reduced</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India last year, more than 25,000 farmers took their own lives, driven to despair by grain shortages and farming deb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7" descr="Hungry%20man"/>
          <p:cNvPicPr/>
          <p:nvPr/>
        </p:nvPicPr>
        <p:blipFill>
          <a:blip r:embed="rId1"/>
          <a:stretch/>
        </p:blipFill>
        <p:spPr>
          <a:xfrm>
            <a:off x="4781520" y="1600200"/>
            <a:ext cx="37720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of the Causes Behind the Global Food Crisis?</a:t>
            </a:r>
            <a:br>
              <a:rPr sz="2000"/>
            </a:br>
            <a:endParaRPr b="0" lang="en-US" sz="20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World’s Population Is Increasing</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s population has steadily increased since the 1800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estimated that the world’s population will reach 9 billion by 205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feed this growing number of people – we need to double today’s production of f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ever, according to UN climate scientists higher temperatures and global warming will lead to droughts and floods that destroy crops of grain, rice, and other staple foods around the world and leave farmlands dried 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a result - we </a:t>
            </a:r>
            <a:r>
              <a:rPr b="0" lang="en-GB" sz="1400" spc="-1" strike="noStrike" u="sng">
                <a:solidFill>
                  <a:srgbClr val="000000"/>
                </a:solidFill>
                <a:uFillTx/>
                <a:latin typeface="Arial"/>
              </a:rPr>
              <a:t>might</a:t>
            </a:r>
            <a:r>
              <a:rPr b="0" lang="en-GB" sz="1400" spc="-1" strike="noStrike">
                <a:solidFill>
                  <a:srgbClr val="000000"/>
                </a:solidFill>
                <a:latin typeface="Arial"/>
              </a:rPr>
              <a:t> be heading for a severe food shortage in the future and we might not be able to feed everyon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lions of people might starve to dea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8" descr="BN3029_8-FB~Street-Crowded-with-People-and-Jeepneys-in-Blumentritt-Area-Manila-Manila-Philippines-Posters"/>
          <p:cNvPicPr/>
          <p:nvPr/>
        </p:nvPicPr>
        <p:blipFill>
          <a:blip r:embed="rId1"/>
          <a:stretch/>
        </p:blipFill>
        <p:spPr>
          <a:xfrm>
            <a:off x="5057640" y="1719360"/>
            <a:ext cx="321948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2-01T00:08:4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